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8958-0629-4FEC-B670-5C481A2B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F244-45A1-458E-A7FB-718C22E9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D7AC-E5E9-4A5A-8972-AF6F11FA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8D8B-FDD5-4453-9A70-5DAAB036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E91-BE38-458B-85A2-35E095BE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72E-69F1-4E10-87B2-277BF47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C4AB-7FE7-48BE-9282-5248D24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AC27-4DA3-4FCD-965A-BFD6882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244-8A2C-4F7F-9B6A-1B018A9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582C-0E70-4E71-9550-74E87B28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FC87-1A43-4CC8-95F2-472060E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7A41-93FC-421F-BBAA-84A3AE56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4884-3B95-4CD6-86B7-75FEF7D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AF1-F646-412B-BB0B-5AED583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9F53-9212-4675-8CFF-120ABD27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CE71-0376-4D64-A41F-C9DF0CB8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954B-F940-4805-9E44-471716F2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1581-B055-4FE9-9616-0EE1C42A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2B1A-53C8-404D-93B0-38A6045F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3950-74B6-410E-B2A8-DB6F5FE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2E0B-52A4-4E83-8E84-59EDE759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4E8B-7481-4781-82F7-486AE74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3D22-0631-4410-8921-EADBF3A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20B0-00C9-4C7D-B92E-279D4F0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E93-6F5B-46FF-A70D-004D6DCFFCE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99C-E563-4966-967D-86F30AB2EB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334880"/>
            <a:ext cx="89280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(667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Роди се нам във Витлее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ъв ясли Божи Син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:роди се радост, нов поде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към Бога триедин!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319120"/>
            <a:ext cx="89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 пречудно име назован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т всички племен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:от вси пророци предвещан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за бъдни времена!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27232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несе се по целий свя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ствената вест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падна вековният тов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очна нов завет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27232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вет на братство и любов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вет на светли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Пръснете всякъде тоз зо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ова бъднина!: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24:14Z</dcterms:modified>
  <cp:revision>51</cp:revision>
  <dc:subject/>
  <dc:title>Slide 1</dc:title>
</cp:coreProperties>
</file>